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800" y="-504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3970080" y="-504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800" y="883080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3970080" y="8830800"/>
            <a:ext cx="304164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696F33E-21A1-4D11-B1A6-9E266D5563B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867400" y="8852040"/>
            <a:ext cx="12740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FE94B099-AA00-4EFD-98D6-17A759DA8ED6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190160" y="706320"/>
            <a:ext cx="4627800" cy="3470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9640" rIns="89640" tIns="45000" bIns="450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A6D30FC-ABE2-4F13-9D73-5BEB489CDA1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96EE7B14-2F88-440B-8DE2-4FDA67F408A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inspections expend a considerable amount of effor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veral team members will need to prepare for and participate in the insp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individual should have done a thorough personal review and certify that the product is ready for team inspec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the product is not ready for team inspection, the team’s time will be was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FCEE1913-80BC-4B55-A1F2-97A6152C129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k with the quality manager to conduct inspection pre-re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the results of the design and code activiti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the results of the personal review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sess whether or not the product(s) are ready for team inspection.  Use the criteria listed on the following slid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estimating defects, capture and recaptu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C7DCF2D-AAA6-483A-BF5E-896ECB94E08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8B9192-4FF5-4795-8A5B-EF18B564AC5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87D8284C-16A5-43F9-A0BB-5A016694018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More than just reviewing designs – checklists not useful – you need verification metho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activity can be the most overlooked activity on a TSP team:  Few engineers take the time to produce comprehensive, detailed designs or even use appropriate methods.  Design mistakes inevitably occur.  Many design mistakes are difficult to find, even in te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ve the design manager lead the design effort:  Identify the most likely individuals to produce the design methods and standards.  Typically, look to the senior experts who have proven design methods in place for themselv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manager can follow these general steps: Propose the design methods and standards to the team; Get agreement from the team; Provide the necessary tools and trainin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must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use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the design methods.  This is more important than proper tools and training.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ften, engineers do not use design methods if they can think of reasons why the methods are inappropriate for their work: Their programs are too small or too large; The methods do not apply to their domain;This is primarily a discipline problem, not a design method proble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sign manager should review the individuals’ work: Make sure that each individual is using good design methods: If the methods don’t work, adjust them; If individuals refuse to use the methods, raise the issue to the team leader and/or the tea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B0A0B2D-4C03-4C4E-8E46-643AC86F90C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292732E-1891-4FA5-9B6E-DCA42C42BD5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9F74426-D96F-47E6-8100-3E42F5ECE5A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DC1BE43-8A2D-44BE-8706-5E8ED326F01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48AA8BD6-E97D-4668-8283-E3F904FC427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2673D2A-B3F7-4BFB-B4AB-E5587249A20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30948C-747D-448A-A6D4-4259B84DC11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14A94F8-B95B-4C20-9073-E3317C363F5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DB9CC4-E2A9-4CAD-AEF3-E82EA666F6D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A9E79BC-EE0E-4D70-BD94-066B5EF1A97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4B1E8E0-0F29-4E18-BCC8-57FFAC14068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5DC85B0-A70C-41D7-8DAC-7162796A8DB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9CA4035-0245-4235-8D19-4B383CAEA28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6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0CCF72D-C977-4F1C-B9AD-1FD5D01F020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76288F9-DCA4-46D6-BB29-CDB54F59503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BB65710-24A6-4CF4-8115-F0FE631E9847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54C4268-CC46-42DC-938D-F544926A5D7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6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3367DC9F-1488-4D5F-A85A-0930997CC93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 individuals will resist and struggle against the TSP quality metho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re than likely, it is simply that the individual engineers do not really understand the TSP quality methods, and how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easure and analyze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the process more effectiv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ok at plan values f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 versus coding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ime spent in design and code revi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ount of effort planned for inspec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ned defect densities, injection rates, and yie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the engineers refuse to revise their pl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to monitor their actual data and offer recommendations as they move forwa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scuss the issues with management (when necessar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3AE3979-BDB3-4B20-9303-973188AABC4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579AD2C-3E90-4F84-9431-FF0FA7E2917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65373ED-14B9-40A2-ACA5-129446E7B15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s is intended to be a summa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is pilot, I would just suggest talking to each bullet for 1 minute --- a quick overview of which each me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will come back to some of these points lat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0EEB3C5-DA53-4710-860C-AEF14306651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0EF5B670-CA80-4A69-8A18-CEFA89E53B3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/code time = 1: as design time reduces, score reduces proportion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e with review time parameters.  If 25% versus 50%, value = 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s found in unit test =11.9: score =(2*5)/11.9+5 = 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F4566BF-7347-409C-A5D5-B999CB047B3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72CE3863-C3F3-49EA-B132-71F39215905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9000" rIns="99000" tIns="49320" bIns="493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ign/code time = 1: as design time reduces, score reduces proportionate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ame with review time parameters.  If 25% versus 50%, value = 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s found in unit test =11.9: score =(2*5)/11.9+5 = .6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8DF7CC-4FEB-4BF0-9DA9-A517B59B502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A613BD8-7841-443C-B560-A4430A240BF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5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fld id="{210F11DD-7718-401C-85EC-39DA7E17886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engineers do not have a good process, or are not collecting data, it will show up on these char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BDE4547-76D4-4F6A-AE42-4AC35E24170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668250C-4861-4204-8DB4-C1E615D86A5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389DA3C-2A1F-4BC5-AACA-D70735BEC18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3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F8C71FD-4C1C-4CD4-8961-B3BCA860CEF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28B7E1-079F-4DB5-A865-D0D540EA4AD4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37CE730-45A4-430C-B5FD-B80F46CDF6A8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963A85-5B14-4497-B3EB-019C42F7975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1476BE5-E733-4653-B9FF-5E5AADC4B7B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8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900" spc="-1" strike="noStrike">
                <a:solidFill>
                  <a:srgbClr val="39536b"/>
                </a:solidFill>
                <a:latin typeface="Arial"/>
              </a:rPr>
              <a:t>© 2007 Carnegie Mellon University</a:t>
            </a:r>
            <a:endParaRPr b="0" lang="en-US" sz="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6" name="Rectangle 12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Course Title | Module #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3970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5D5B47C-4F33-438B-811F-791F16DE2555}" type="datetime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32040" y="4414680"/>
            <a:ext cx="514656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THE TEAM TO GET THIS INFORMATION, THEY MUST RECORD GOOD DATA…. Which sets up for the next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spections assumes 2 inspectors + 1 produc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TE:   To be effective this data must include all people affected by a defect time to Find, Fix etc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 example in system test, it is the ti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for tester to see the sympt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 to reproduce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 to record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eproduce it for the develop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he developer to find the root ca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likely time to be processed in CC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ime to f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ime to review, inspect, unit test the f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elease 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test it in system te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--- run regression tes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ooter Placeholder 3"/>
          <p:cNvSpPr/>
          <p:nvPr/>
        </p:nvSpPr>
        <p:spPr>
          <a:xfrm>
            <a:off x="-1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© 2007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800" spc="-1" strike="noStrike">
                <a:solidFill>
                  <a:srgbClr val="39536b"/>
                </a:solidFill>
                <a:latin typeface="Times New Roman"/>
              </a:rPr>
              <a:t>  </a:t>
            </a:r>
            <a:endParaRPr b="0" lang="en-US" sz="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3" name="Header Placeholder 4"/>
          <p:cNvSpPr/>
          <p:nvPr/>
        </p:nvSpPr>
        <p:spPr>
          <a:xfrm>
            <a:off x="-1440" y="-468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Managing Qual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B13C608-D840-40EA-BC9F-21D058BABA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0814A1A-5EF5-4C4E-8CC7-EA9071A1678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t quality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ine processes with defect removal phas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llect data on defect injection, removal, costs, and detai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 for defect injection and removal using historical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ing for high quality results with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alyzing economics of qua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ing for measured improv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usal analysis of escaped defe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fect prevention activ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spcAft>
                <a:spcPts val="1188"/>
              </a:spcAft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5776490-69BA-48BF-98A2-2E539B9A417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880" bIns="4788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332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970440" y="8831160"/>
            <a:ext cx="30416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F845EF-E358-4BF1-9936-30E8E4C5D17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E0695A26-38AC-4062-8214-8C8ED5863C6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BE8445A8-8C80-4496-8F7D-9FE28F79FDB9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5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6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Maintaining a Quality Focu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Quality Journey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are eight steps along the quality journe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and fix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rti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ownershi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son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buClr>
                <a:srgbClr val="39536b"/>
              </a:buClr>
              <a:buFont typeface="Arial"/>
              <a:buAutoNum type="arabicPeriod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r-based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se steps are described on the following sl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ving from Test to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720" y="1538280"/>
            <a:ext cx="779760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should work with teams to move from a test- and-fix mentality to one of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1.  Test and fix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rely on testing to find and fix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focus on more effective and efficient test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2.  Inspectio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and individuals begin to use inspections to remove defects before tes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can help team members to do high-quality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 to improve personal reviews and to establish a sense of ownership of defects at the individual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the Inspection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3.  Parti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look at inspection data and use the data to improve both the inspection process and the defective product elem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for the coach is to get teams to collect adequate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individuals to collect their own data as they use the team inspection proc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team to look at team aggregate data and to get a sense of what value the data provid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nalizing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720" y="1709640"/>
            <a:ext cx="779760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4.  Quality ownership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are responsible for the quality of the products that they produc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must treat every personal review as certification that their product is free of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defects are found in inspections and test, the individual must find and fix those defects and try to prevent them in the futur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is responsible for the components of the system that they produc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works with the team to help establish ownership and accountability for high-quality produ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the Personal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5.  Personal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use their PSP skills to understand their own defect injection and removal history to improve the way that they wor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get the individuals to collect and use the data; work with individuals to collec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individuals to identify areas of strength and weakn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 to identify design as a key area for improv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ocusing on Desig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568520"/>
            <a:ext cx="7413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tep 6.  Desig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s manage their coding and simple design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start to focus on truly challenging design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is requires precise and well-defined design practices, as well as sound design verification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omplishing this step depends on th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kills of the individu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ypes of practices and methods that are applicable to the team and their domai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standards and procedures for using these practices and metho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ork with the senior leads to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stablish the standards, practices, methods, and procedur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ain team membe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100480" y="0"/>
            <a:ext cx="404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200" spc="-1" strike="noStrike">
                <a:solidFill>
                  <a:srgbClr val="9c2108"/>
                </a:solidFill>
                <a:latin typeface="Arial"/>
              </a:rPr>
              <a:t>Focus on Defect Prevention and User-Based Measurement</a:t>
            </a:r>
            <a:endParaRPr b="1" lang="en-US" sz="2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7.  Defect preven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ith the previous methods in place, the individuals and teams can practice true defect preven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requires a structured procedure for identifying the changes needed to eliminate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get the defect prevention program initiated and us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ep 8.  User-based measur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ltimately, the quality program should be driven by user-based quality measur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hallenge is to understand who the users are, the quality characteristics that are important to them, and how to measure these characteristics (e.g., usability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Inspections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experience doing inspec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often do you have your work products inspect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you do inspections of other people’s work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you use checklist driven inspec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Have Inspec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spections are the team’s early window into product quality during develop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general, effective personal reviews and team inspections will significantly decrease test time and shorten overall development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st software defects are found by inspecting the cod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a personal review or team inspec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response to a compile or test defec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response to a problem repor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question is, “Are you inspecting effectively?”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odul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modul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maintaining a quality foc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where teams are with respect to the quality journey and what they need to do to impro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se the methods, forms, and tools that support the TSP quality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Inspection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TSP inspection process is specified in script I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quality manager either acts as the inspection moderator or ensures that one is available.  (See the TSP ROLE Specification.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The process has features common to other effective inspection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 preliminary check of the product to ensure that it is ready for review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review by two or more individuals other than the produc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n inspection meeting to compare and consolidate findings from the individual review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nique Features of TSP Inspec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17360" y="1526760"/>
            <a:ext cx="7413480" cy="477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quality manager takes the lead, either performing the moderator’s role or designating a qualified moderator for each inspec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pre-inspection is more structured than in other inspection method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isciplined, checklist-driven PSP personal review skills and methods are assu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sign inspections should use appropriate design verification techniques, as indica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remaining in the product are estimated using the capture-recapture metho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eliminary Re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90480" y="1657080"/>
            <a:ext cx="741384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Before starting the inspection process, the moderator personally reviews the product to ensure that it is of inspection quality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is of high quality, it is inspect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roduct is not of high quality, the producer is asked to re-review the product and record all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Chapter 19 (p 252) of Coaching Development Teams has inspection pre-review checklists for design and code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Brief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moderator verifies that the inspection entry criteria have been me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ducer familiarizes the team with the produc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reviewers select viewpoints or areas for product concentration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moderator schedules the inspection meeting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Prepar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make detailed product revie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entrate on their selected viewpoint or product are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 their defects on the product document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ize time and defect data on form IN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Meeting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pen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moderator ensures that the reviewers are prepar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eeting roles are assig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inspection meeting procedure is outlin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duct walkthroug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ers describe defects foun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s are recorded on form I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ducer resolves any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ducer verifies each defect report with the reviewe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eam does not attempt to solve or fix the defects report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fect check:  The moderator asks for any unrecorded defec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spection Meeting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stimation of defects remain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derator estimates the defects remaining, using the capture-recapture meth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oderator determines the reviewers’ personal yield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note any items to add to their review checklis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clus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decides if a reinspection i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ers decide how to verify defect correctio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ntry Criteri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12600" y="1734840"/>
            <a:ext cx="7413480" cy="459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eam inspections expend a considerable amount of effor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If the product is not ready for team inspection, the team’s time will be wasted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ducer should complete a thorough personal review and certify that the product is ready for team inspection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capture-recapture method estimates the number of major defects remaining in the product by comparing the findings of individual review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jor defects eith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 the executable co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uld ultimately cause an executable code change if not fixed i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ll other defects are considered mino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e, only major defects are recorded he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838080" y="2166840"/>
          <a:ext cx="6985080" cy="397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66840"/>
                    <a:ext cx="6985080" cy="39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Describe a High Quality Team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a team look like that was fully practicing quality management?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results look lik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ctivities would they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would they do when defects escape to customer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15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76000" y="1709640"/>
            <a:ext cx="80787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1. Identify the reviewer who found the most unique major defect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2.  Check the defects that reviewer found in column A. (A = total defects in column A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3.  In column B, check all defects found by the other reviewers.  (B = total defects for in column B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4.  Count all of the common defects between columns A and B.  (C = number of common defects between columns A and B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Step 5.  Calculate defects remaining, using the formula (A*B/C) – (A+B-C)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apture-Recapture Method -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= total defects in column A =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 = total defects for in column B =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 = number of common defects b/t columns A and B = 7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tal defects =  A*B/C = 9*9/7 = 11.57 = 1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= A+B-C = 9+9-7 = 1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remaining =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duct Rework and Ver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ducer makes repairs and updates document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lds needed rereviews and/or reinspec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ies fixes, as recommended by review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Product Defects vs. Inspection Defect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ly the product owner can classify a problem as a defect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otential problems with a work product under inspection are called “defects” throughout the inspection material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in inspection and documented on form INS are not considered product defects until the product owner logs the defect in the LOGD sheet of his/her TSP workboo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Making Inspections a team habit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teams you expect to be coach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problems do you think the team will face in making checklist driven inspections a habit?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ich problems will be most difficult to overcom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an you help the team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20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view the Pla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eam members do not plan quality work, they most likely won’t do quality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he team plan and individual detailed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iodically during project execu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the planning and quality guidelines or team historical data to assess whether or not the plans are reasonabl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plans look questionable, discuss them with the individuals or the team, as appropria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sure that the team plans adequate time to perform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view the team plan and individual detailed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uring the 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eriodically during project executi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ood inspection skills are dependent upon good personal review skil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Use inspections as peer pressure to motivate people to do effective personal review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session to ensure people build and understand their review checklis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or attend the first inspec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a coach, aid the team leader in resisting temptation or pressure to shortchange the inspection proces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Emphasize to the quality manager the role that he/she plays in ensuring that both producer and reviewers take the inspection process seriousl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ee appendix C of Introduction to the Team Software Process [Humphrey, 2000]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250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Analyzing Quality Data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profile values are determined as follow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time &gt; 100% of cod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review time &gt; 50 % of design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de review time &gt; 50% of coding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defects &lt; 10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it test defects &lt; 5 defects/KLOC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profile assigns a value for each of these measures.  Values range from 0 to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measure obtained meets the criteria, the value for that item is 1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value is assigned proportionately, based on the measure obtain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ality Management Summar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t 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ine processes with defect removal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data on defect injection, removal, costs, and detai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for defect injection and removal using historical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naging for high quality results with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zing economics of qua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riving for measured improv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usal analysis of escaped def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prevention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onent Quality Profile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8" name="Line 4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9" name="Line 5"/>
          <p:cNvSpPr/>
          <p:nvPr/>
        </p:nvSpPr>
        <p:spPr>
          <a:xfrm>
            <a:off x="4576680" y="3174840"/>
            <a:ext cx="669960" cy="495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576680" y="2452680"/>
            <a:ext cx="1359000" cy="98748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1" name="Line 7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2" name="Line 8"/>
          <p:cNvSpPr/>
          <p:nvPr/>
        </p:nvSpPr>
        <p:spPr>
          <a:xfrm flipH="1">
            <a:off x="4998960" y="3670200"/>
            <a:ext cx="247680" cy="792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3" name="Line 9"/>
          <p:cNvSpPr/>
          <p:nvPr/>
        </p:nvSpPr>
        <p:spPr>
          <a:xfrm flipH="1">
            <a:off x="5423040" y="3440160"/>
            <a:ext cx="512640" cy="1603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4" name="Line 10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Line 11"/>
          <p:cNvSpPr/>
          <p:nvPr/>
        </p:nvSpPr>
        <p:spPr>
          <a:xfrm flipH="1">
            <a:off x="4152960" y="4462560"/>
            <a:ext cx="8460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6" name="Line 12"/>
          <p:cNvSpPr/>
          <p:nvPr/>
        </p:nvSpPr>
        <p:spPr>
          <a:xfrm flipH="1">
            <a:off x="3730320" y="5043600"/>
            <a:ext cx="1692360" cy="32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7" name="Line 13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8" name="Line 14"/>
          <p:cNvSpPr/>
          <p:nvPr/>
        </p:nvSpPr>
        <p:spPr>
          <a:xfrm flipH="1" flipV="1">
            <a:off x="3906720" y="3669840"/>
            <a:ext cx="246240" cy="792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9" name="Line 15"/>
          <p:cNvSpPr/>
          <p:nvPr/>
        </p:nvSpPr>
        <p:spPr>
          <a:xfrm flipH="1" flipV="1">
            <a:off x="3219480" y="3440160"/>
            <a:ext cx="511200" cy="1603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0" name="Line 16"/>
          <p:cNvSpPr/>
          <p:nvPr/>
        </p:nvSpPr>
        <p:spPr>
          <a:xfrm>
            <a:off x="4576680" y="3881520"/>
            <a:ext cx="1800" cy="144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1" name="Line 17"/>
          <p:cNvSpPr/>
          <p:nvPr/>
        </p:nvSpPr>
        <p:spPr>
          <a:xfrm flipV="1">
            <a:off x="3906720" y="3174840"/>
            <a:ext cx="669960" cy="49536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2" name="Line 18"/>
          <p:cNvSpPr/>
          <p:nvPr/>
        </p:nvSpPr>
        <p:spPr>
          <a:xfrm flipV="1">
            <a:off x="3219480" y="2452320"/>
            <a:ext cx="1357200" cy="987480"/>
          </a:xfrm>
          <a:prstGeom prst="line">
            <a:avLst/>
          </a:prstGeom>
          <a:ln w="0">
            <a:solidFill>
              <a:srgbClr val="39536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3" name="Freeform 19"/>
          <p:cNvSpPr/>
          <p:nvPr/>
        </p:nvSpPr>
        <p:spPr>
          <a:xfrm>
            <a:off x="3219480" y="2452680"/>
            <a:ext cx="2398680" cy="259092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2590920"/>
              <a:gd name="textAreaBottom" fmla="*/ 2591280 h 2590920"/>
            </a:gdLst>
            <a:ahLst/>
            <a:rect l="textAreaLeft" t="textAreaTop" r="textAreaRight" b="textAreaBottom"/>
            <a:pathLst>
              <a:path w="136" h="147">
                <a:moveTo>
                  <a:pt x="77" y="0"/>
                </a:moveTo>
                <a:lnTo>
                  <a:pt x="136" y="62"/>
                </a:lnTo>
                <a:lnTo>
                  <a:pt x="125" y="147"/>
                </a:lnTo>
                <a:lnTo>
                  <a:pt x="37" y="136"/>
                </a:lnTo>
                <a:lnTo>
                  <a:pt x="0" y="56"/>
                </a:lnTo>
                <a:lnTo>
                  <a:pt x="77" y="0"/>
                </a:lnTo>
              </a:path>
            </a:pathLst>
          </a:custGeom>
          <a:noFill/>
          <a:ln w="15840">
            <a:solidFill>
              <a:srgbClr val="3953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4" name="Rectangle 20"/>
          <p:cNvSpPr/>
          <p:nvPr/>
        </p:nvSpPr>
        <p:spPr>
          <a:xfrm>
            <a:off x="3653280" y="2065320"/>
            <a:ext cx="176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Design/code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5" name="Rectangle 21"/>
          <p:cNvSpPr/>
          <p:nvPr/>
        </p:nvSpPr>
        <p:spPr>
          <a:xfrm>
            <a:off x="6015600" y="3282840"/>
            <a:ext cx="1762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Code review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6" name="Rectangle 22"/>
          <p:cNvSpPr/>
          <p:nvPr/>
        </p:nvSpPr>
        <p:spPr>
          <a:xfrm>
            <a:off x="5489280" y="4938840"/>
            <a:ext cx="2321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Compile defects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Rectangle 23"/>
          <p:cNvSpPr/>
          <p:nvPr/>
        </p:nvSpPr>
        <p:spPr>
          <a:xfrm>
            <a:off x="1325160" y="4938840"/>
            <a:ext cx="2324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Unit test defects/KLOC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8" name="Rectangle 24"/>
          <p:cNvSpPr/>
          <p:nvPr/>
        </p:nvSpPr>
        <p:spPr>
          <a:xfrm>
            <a:off x="1114560" y="3282840"/>
            <a:ext cx="19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Design review tim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Process Quality Index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quality index (PQI) provides a quality figure or merit for every system el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is an advanced topic that depends on having data you can capture early in the project that is predictive of the end product qu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following example is based on software where the SEI has significant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9707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ponent Quality Profile Calculations</a:t>
            </a:r>
            <a:br>
              <a:rPr sz="3200"/>
            </a:b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202" name="Group 24"/>
          <p:cNvGrpSpPr/>
          <p:nvPr/>
        </p:nvGrpSpPr>
        <p:grpSpPr>
          <a:xfrm>
            <a:off x="7094520" y="3975120"/>
            <a:ext cx="1939680" cy="1953720"/>
            <a:chOff x="7094520" y="3975120"/>
            <a:chExt cx="1939680" cy="1953720"/>
          </a:xfrm>
        </p:grpSpPr>
        <p:sp>
          <p:nvSpPr>
            <p:cNvPr id="203" name="Line 3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4" name="Line 4"/>
            <p:cNvSpPr/>
            <p:nvPr/>
          </p:nvSpPr>
          <p:spPr>
            <a:xfrm>
              <a:off x="8063640" y="4519080"/>
              <a:ext cx="478440" cy="3729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5" name="Line 5"/>
            <p:cNvSpPr/>
            <p:nvPr/>
          </p:nvSpPr>
          <p:spPr>
            <a:xfrm>
              <a:off x="8063640" y="3975120"/>
              <a:ext cx="970560" cy="7437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6" name="Line 6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7" name="Line 7"/>
            <p:cNvSpPr/>
            <p:nvPr/>
          </p:nvSpPr>
          <p:spPr>
            <a:xfrm flipH="1">
              <a:off x="8364960" y="4892040"/>
              <a:ext cx="176760" cy="5968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8" name="Line 8"/>
            <p:cNvSpPr/>
            <p:nvPr/>
          </p:nvSpPr>
          <p:spPr>
            <a:xfrm flipH="1">
              <a:off x="8668080" y="4718880"/>
              <a:ext cx="366120" cy="120780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0" name="Line 10"/>
            <p:cNvSpPr/>
            <p:nvPr/>
          </p:nvSpPr>
          <p:spPr>
            <a:xfrm flipH="1">
              <a:off x="7761240" y="5488920"/>
              <a:ext cx="604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1" name="Line 11"/>
            <p:cNvSpPr/>
            <p:nvPr/>
          </p:nvSpPr>
          <p:spPr>
            <a:xfrm flipH="1">
              <a:off x="7459200" y="5926680"/>
              <a:ext cx="1208520" cy="21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2" name="Line 12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3" name="Line 13"/>
            <p:cNvSpPr/>
            <p:nvPr/>
          </p:nvSpPr>
          <p:spPr>
            <a:xfrm flipH="1" flipV="1">
              <a:off x="7585200" y="4892040"/>
              <a:ext cx="175680" cy="5968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4" name="Line 14"/>
            <p:cNvSpPr/>
            <p:nvPr/>
          </p:nvSpPr>
          <p:spPr>
            <a:xfrm flipH="1" flipV="1">
              <a:off x="7094520" y="4718520"/>
              <a:ext cx="365040" cy="120780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5" name="Line 15"/>
            <p:cNvSpPr/>
            <p:nvPr/>
          </p:nvSpPr>
          <p:spPr>
            <a:xfrm>
              <a:off x="8063640" y="5051160"/>
              <a:ext cx="1080" cy="108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6" name="Line 16"/>
            <p:cNvSpPr/>
            <p:nvPr/>
          </p:nvSpPr>
          <p:spPr>
            <a:xfrm flipV="1">
              <a:off x="7585200" y="4519080"/>
              <a:ext cx="478440" cy="3729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7" name="Line 17"/>
            <p:cNvSpPr/>
            <p:nvPr/>
          </p:nvSpPr>
          <p:spPr>
            <a:xfrm flipV="1">
              <a:off x="7094520" y="3975120"/>
              <a:ext cx="969120" cy="743760"/>
            </a:xfrm>
            <a:prstGeom prst="line">
              <a:avLst/>
            </a:prstGeom>
            <a:ln w="0">
              <a:solidFill>
                <a:srgbClr val="39536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18" name="Freeform 18"/>
            <p:cNvSpPr/>
            <p:nvPr/>
          </p:nvSpPr>
          <p:spPr>
            <a:xfrm>
              <a:off x="7094520" y="3975120"/>
              <a:ext cx="1713240" cy="1951560"/>
            </a:xfrm>
            <a:custGeom>
              <a:avLst/>
              <a:gdLst>
                <a:gd name="textAreaLeft" fmla="*/ 0 w 1713240"/>
                <a:gd name="textAreaRight" fmla="*/ 1713600 w 1713240"/>
                <a:gd name="textAreaTop" fmla="*/ 0 h 1951560"/>
                <a:gd name="textAreaBottom" fmla="*/ 1951920 h 1951560"/>
              </a:gdLst>
              <a:ahLst/>
              <a:rect l="textAreaLeft" t="textAreaTop" r="textAreaRight" b="textAreaBottom"/>
              <a:pathLst>
                <a:path w="136" h="147">
                  <a:moveTo>
                    <a:pt x="77" y="0"/>
                  </a:moveTo>
                  <a:lnTo>
                    <a:pt x="136" y="62"/>
                  </a:lnTo>
                  <a:lnTo>
                    <a:pt x="125" y="147"/>
                  </a:lnTo>
                  <a:lnTo>
                    <a:pt x="37" y="136"/>
                  </a:lnTo>
                  <a:lnTo>
                    <a:pt x="0" y="56"/>
                  </a:lnTo>
                  <a:lnTo>
                    <a:pt x="77" y="0"/>
                  </a:lnTo>
                </a:path>
              </a:pathLst>
            </a:custGeom>
            <a:noFill/>
            <a:ln w="15840">
              <a:solidFill>
                <a:srgbClr val="39536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  <p:sp>
        <p:nvSpPr>
          <p:cNvPr id="219" name="Rectangle 19"/>
          <p:cNvSpPr/>
          <p:nvPr/>
        </p:nvSpPr>
        <p:spPr>
          <a:xfrm>
            <a:off x="1028880" y="1477800"/>
            <a:ext cx="7024680" cy="49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Design/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50 minutes/50 minutes = 1, expected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25 minutes/50 minutes = .5, 50% of expected; Score = .5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Design review/design time and code review/code tim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25 minutes/50 minutes = .5, expected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5 minutes/50 minutes = .1, 20% of expected; Score = .2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9536b"/>
              </a:buClr>
              <a:buFont typeface="Bodoni Bd BT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Score for unit test defects/KLOC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measured value + 5), e.g.,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5 + 5) = 1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Any number less than 5, calculation &gt;1; Score = 1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5) / (10 + 5) = .66; Score = .66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buClr>
                <a:srgbClr val="39536b"/>
              </a:buClr>
              <a:buFont typeface="Bodoni Bd BT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225360" indent="-225360">
              <a:buClr>
                <a:srgbClr val="39536b"/>
              </a:buClr>
              <a:buFont typeface="Arial"/>
              <a:buChar char="•"/>
              <a:tabLst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Score for compile defects/KLOC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682560" indent="-225360"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  <a:ea typeface="MS PGothic"/>
              </a:rPr>
              <a:t>(2 * 10) / (measured value + 10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QI for Softwa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calculate PQI, multiply the profile dimensions to produce a composite value that consi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pile and unit test defect lev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sign and code review ti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spent in desig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test entry, PQI indicates the likelihood that a system element will have subsequent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lues above 0.4 are considered to be goo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115920" rIns="115920" tIns="57240" bIns="5724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x Component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600120" y="1452600"/>
            <a:ext cx="8111520" cy="5173200"/>
            <a:chOff x="600120" y="1452600"/>
            <a:chExt cx="8111520" cy="5173200"/>
          </a:xfrm>
        </p:grpSpPr>
        <p:graphicFrame>
          <p:nvGraphicFramePr>
            <p:cNvPr id="224" name="Object 4"/>
            <p:cNvGraphicFramePr/>
            <p:nvPr/>
          </p:nvGraphicFramePr>
          <p:xfrm>
            <a:off x="600120" y="1452600"/>
            <a:ext cx="2581920" cy="224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5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0120" y="1452600"/>
                      <a:ext cx="2581920" cy="224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6" name="Object 5"/>
            <p:cNvGraphicFramePr/>
            <p:nvPr/>
          </p:nvGraphicFramePr>
          <p:xfrm>
            <a:off x="3263400" y="1452600"/>
            <a:ext cx="2590920" cy="22676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7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263400" y="1452600"/>
                      <a:ext cx="2590920" cy="2267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28" name="Object 6"/>
            <p:cNvGraphicFramePr/>
            <p:nvPr/>
          </p:nvGraphicFramePr>
          <p:xfrm>
            <a:off x="6008400" y="1452600"/>
            <a:ext cx="2580480" cy="225936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9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08400" y="1452600"/>
                      <a:ext cx="2580480" cy="225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0" name="Object 7"/>
            <p:cNvGraphicFramePr/>
            <p:nvPr/>
          </p:nvGraphicFramePr>
          <p:xfrm>
            <a:off x="603000" y="4322160"/>
            <a:ext cx="2580480" cy="226152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231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3000" y="4322160"/>
                      <a:ext cx="2580480" cy="2261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2" name="Object 8"/>
            <p:cNvGraphicFramePr/>
            <p:nvPr/>
          </p:nvGraphicFramePr>
          <p:xfrm>
            <a:off x="3263400" y="4322160"/>
            <a:ext cx="2601000" cy="2281680"/>
          </p:xfrm>
          <a:graphic>
            <a:graphicData uri="http://schemas.openxmlformats.org/presentationml/2006/ole">
              <p:oleObj progId="Excel.Sheet.12" r:id="rId9" spid="">
                <p:embed/>
                <p:pic>
                  <p:nvPicPr>
                    <p:cNvPr id="233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3263400" y="4322160"/>
                      <a:ext cx="2601000" cy="2281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34" name="Object 9"/>
            <p:cNvGraphicFramePr/>
            <p:nvPr/>
          </p:nvGraphicFramePr>
          <p:xfrm>
            <a:off x="6091560" y="4322160"/>
            <a:ext cx="2620080" cy="2303640"/>
          </p:xfrm>
          <a:graphic>
            <a:graphicData uri="http://schemas.openxmlformats.org/presentationml/2006/ole">
              <p:oleObj progId="Excel.Sheet.12" r:id="rId11" spid="">
                <p:embed/>
                <p:pic>
                  <p:nvPicPr>
                    <p:cNvPr id="235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6091560" y="4322160"/>
                      <a:ext cx="2620080" cy="230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Object 0"/>
          <p:cNvGraphicFramePr/>
          <p:nvPr/>
        </p:nvGraphicFramePr>
        <p:xfrm>
          <a:off x="436680" y="760320"/>
          <a:ext cx="8251560" cy="563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760320"/>
                    <a:ext cx="825156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Quality Profil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506600"/>
            <a:ext cx="741348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combination of all five profile dimensions provides a reasonably comprehensive view of the development proces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When the quality profile indicates a high-quality program, that program is unlikely to have remaining defect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By examining the quality profiles for many programs, teams can quickly spot programs that are most likely to have quality problem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From the quality profile, teams can see which process area was most troublesome and presents an opportunity for improvement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31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100" spc="-1" strike="noStrike">
                <a:solidFill>
                  <a:srgbClr val="39536b"/>
                </a:solidFill>
                <a:latin typeface="Arial"/>
              </a:rPr>
              <a:t>The profiles should be used only as guides.</a:t>
            </a:r>
            <a:endParaRPr b="0" lang="en-US" sz="21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ata Analysi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ok at test data and try to identify the most troublesome componen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number of defects found in any test is the best indicator of the number of defects likely to remain after that te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st yields can be 40-60%, so roughly as many defects remain as were fou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follows a good process, and the PQI is 0.4 or greater, test yields can be 70-90%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ve the team reinspect and fix the components that are likely to have remaining defects, as time allows.  This wil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e higher-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duce integration and test tim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Quality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017360" y="1588680"/>
            <a:ext cx="741348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a consistent focus on quality, it is important to regularly analyze and report defect data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needs to be looked at in contex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vide an indication of good and bad quality compon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ovide hints on what may be done to reduce the risk of poor quality produ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ata can be examined for the system or at the individual leve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-level system data may be reported to 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data may indicate troublesome phases or processe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dividual data may indicate components with specific probl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careful how data are handl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35880" indent="-3358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data begin to stabilize, consider statistical analysi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Removal Prof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866960" y="12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101600" y="1509840"/>
          <a:ext cx="7434360" cy="4914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1509840"/>
                    <a:ext cx="7434360" cy="49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xercise: Coaching Activ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m into groups of 3 to 4 people.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SP Coach working with teams, think about and answer these ques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s your role as a TSP Coach around the quality activiti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obstacles will you have in working with a team to fully adopt these practic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deas do you have of what a Coach can do to help teams overcome these obstacle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You have 20 minut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esent results to the grou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efect Density Profi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1890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1224000" y="1611360"/>
          <a:ext cx="7283520" cy="477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611360"/>
                    <a:ext cx="728352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de Review Rate Run Cha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5"/>
          <p:cNvSpPr/>
          <p:nvPr/>
        </p:nvSpPr>
        <p:spPr>
          <a:xfrm>
            <a:off x="211932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750960" y="1496880"/>
          <a:ext cx="7602480" cy="487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0960" y="1496880"/>
                    <a:ext cx="7602480" cy="487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ile Run Char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2114640" y="17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779400" y="1511280"/>
          <a:ext cx="7715160" cy="488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79400" y="1511280"/>
                    <a:ext cx="771516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st Defect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5"/>
          <p:cNvSpPr/>
          <p:nvPr/>
        </p:nvSpPr>
        <p:spPr>
          <a:xfrm>
            <a:off x="2114640" y="17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graphicFrame>
        <p:nvGraphicFramePr>
          <p:cNvPr id="265" name="Object 4"/>
          <p:cNvGraphicFramePr/>
          <p:nvPr/>
        </p:nvGraphicFramePr>
        <p:xfrm>
          <a:off x="768240" y="1473120"/>
          <a:ext cx="7772400" cy="4959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6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8240" y="1473120"/>
                    <a:ext cx="77724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hase Yield Comparis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"/>
          <p:cNvPicPr/>
          <p:nvPr/>
        </p:nvPicPr>
        <p:blipFill>
          <a:blip r:embed="rId2"/>
          <a:stretch/>
        </p:blipFill>
        <p:spPr>
          <a:xfrm>
            <a:off x="631800" y="1544760"/>
            <a:ext cx="78948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Economics of Qualit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ECONOMICS OF QUALITY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108080" y="1998720"/>
          <a:ext cx="7086600" cy="4168800"/>
        </p:xfrm>
        <a:graphic>
          <a:graphicData uri="http://schemas.openxmlformats.org/drawingml/2006/table">
            <a:tbl>
              <a:tblPr/>
              <a:tblGrid>
                <a:gridCol w="2133720"/>
                <a:gridCol w="1523880"/>
                <a:gridCol w="1600200"/>
                <a:gridCol w="1828800"/>
              </a:tblGrid>
              <a:tr h="9158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Avg. removal rate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defects/hr)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Phase yields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(% of defects removed)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t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Estimated effor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t" marL="92160" marR="9216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368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Review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.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Design Inspection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Review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Code Inspection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50% to 7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Unit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2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63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Integration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1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576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5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System Test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0.05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9536b"/>
                          </a:solidFill>
                          <a:latin typeface="Arial"/>
                        </a:rPr>
                        <a:t>35% to 50%</a:t>
                      </a:r>
                      <a:endParaRPr b="0" lang="en-US" sz="18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5760">
                      <a:solidFill>
                        <a:srgbClr val="39536b"/>
                      </a:solidFill>
                    </a:lnR>
                    <a:lnT w="5760">
                      <a:solidFill>
                        <a:srgbClr val="39536b"/>
                      </a:solidFill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spcAft>
                          <a:spcPts val="1125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39536b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9536b"/>
                      </a:solidFill>
                    </a:lnL>
                    <a:lnR w="13680">
                      <a:solidFill>
                        <a:srgbClr val="39536b"/>
                      </a:solidFill>
                    </a:lnR>
                    <a:lnT>
                      <a:noFill/>
                    </a:lnT>
                    <a:lnB w="13680">
                      <a:solidFill>
                        <a:srgbClr val="39536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Text Box 63"/>
          <p:cNvSpPr/>
          <p:nvPr/>
        </p:nvSpPr>
        <p:spPr>
          <a:xfrm>
            <a:off x="3428640" y="1425600"/>
            <a:ext cx="124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Efficienc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5" name="Text Box 64"/>
          <p:cNvSpPr/>
          <p:nvPr/>
        </p:nvSpPr>
        <p:spPr>
          <a:xfrm>
            <a:off x="4776480" y="1425600"/>
            <a:ext cx="162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Effectiven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6" name="AutoShape 65"/>
          <p:cNvSpPr/>
          <p:nvPr/>
        </p:nvSpPr>
        <p:spPr>
          <a:xfrm rot="16200000">
            <a:off x="3938400" y="1096560"/>
            <a:ext cx="135000" cy="1544400"/>
          </a:xfrm>
          <a:custGeom>
            <a:avLst/>
            <a:gdLst>
              <a:gd name="textAreaLeft" fmla="*/ 0 w 135000"/>
              <a:gd name="textAreaRight" fmla="*/ 94680 w 135000"/>
              <a:gd name="textAreaTop" fmla="*/ 64080 h 1544400"/>
              <a:gd name="textAreaBottom" fmla="*/ 1480320 h 154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7" name="AutoShape 66"/>
          <p:cNvSpPr/>
          <p:nvPr/>
        </p:nvSpPr>
        <p:spPr>
          <a:xfrm rot="16200000">
            <a:off x="5492520" y="1086840"/>
            <a:ext cx="152280" cy="1581120"/>
          </a:xfrm>
          <a:custGeom>
            <a:avLst/>
            <a:gdLst>
              <a:gd name="textAreaLeft" fmla="*/ 0 w 152280"/>
              <a:gd name="textAreaRight" fmla="*/ 106920 w 152280"/>
              <a:gd name="textAreaTop" fmla="*/ 65880 h 1581120"/>
              <a:gd name="textAreaBottom" fmla="*/ 1515240 h 1581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8" name="Text Box 68"/>
          <p:cNvSpPr/>
          <p:nvPr/>
        </p:nvSpPr>
        <p:spPr>
          <a:xfrm>
            <a:off x="6473160" y="1425600"/>
            <a:ext cx="1557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Predictabi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9" name="AutoShape 69"/>
          <p:cNvSpPr/>
          <p:nvPr/>
        </p:nvSpPr>
        <p:spPr>
          <a:xfrm rot="16200000">
            <a:off x="7180920" y="998640"/>
            <a:ext cx="166680" cy="1771920"/>
          </a:xfrm>
          <a:custGeom>
            <a:avLst/>
            <a:gdLst>
              <a:gd name="textAreaLeft" fmla="*/ 0 w 166680"/>
              <a:gd name="textAreaRight" fmla="*/ 117000 w 166680"/>
              <a:gd name="textAreaTop" fmla="*/ 73800 h 1771920"/>
              <a:gd name="textAreaBottom" fmla="*/ 1698120 h 1771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0" name="Rectangle 85"/>
          <p:cNvSpPr/>
          <p:nvPr/>
        </p:nvSpPr>
        <p:spPr>
          <a:xfrm>
            <a:off x="6402240" y="4873680"/>
            <a:ext cx="173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Aft>
                <a:spcPts val="1125"/>
              </a:spcAft>
              <a:buClr>
                <a:srgbClr val="39536b"/>
              </a:buClr>
              <a:buSzPct val="70000"/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High variability - based on time to find &amp; fix defect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1" name="Rectangle 101"/>
          <p:cNvSpPr/>
          <p:nvPr/>
        </p:nvSpPr>
        <p:spPr>
          <a:xfrm>
            <a:off x="6429240" y="3213000"/>
            <a:ext cx="16066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buClr>
                <a:srgbClr val="39536b"/>
              </a:buClr>
              <a:buFont typeface="Arial"/>
              <a:buChar char="•"/>
              <a:tabLst>
                <a:tab algn="l" pos="29196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  <a:ea typeface="MS PGothic"/>
              </a:rPr>
              <a:t>Low variability - based on product siz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9520" y="819000"/>
            <a:ext cx="8292960" cy="4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Exercise: Economics of Quality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573120" y="1709640"/>
            <a:ext cx="78580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structions: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instructor will review the attached spreadshee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scuss what you would need to do to build an economics of quality table for your team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the Team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help a team build a useful economics of quality ch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cus on the team processes that are most related to their quality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 teams track defect data accurately associated with those proces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quality manager to build the economics of quality char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the report with th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llect process improvement propos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that focus on quality will gain maximum benefits from TSP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quality strategy focuses on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finding and fixing defec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reventing defects from being inject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862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prescribes methods for helping teams to manage their quality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TSP coach can help the team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dentify their own quality maturit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navigate a path towards continuous quality improvemen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87480" y="890280"/>
            <a:ext cx="7864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he Quality Journey, The Team, The Coach - 1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44720" y="1530000"/>
            <a:ext cx="7431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defined, the TSP has all of the necessary tools to navigate through the quality-improvement steps.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spections are part of the proces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easurements are defined and available for us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Design methods are prescribed for softwar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foundation is laid for teams to look at defect prevention and user-based measur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overall challenge faced by the TSP coach involves knowing which steps the team and its individuals are taking, and what to do nex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sequence we are about to describe should help you in facing this challeng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derstand the steps in the sequenc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Recognize that individuals and teams can skip steps or fall bac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lways keep a focus of getting teams to the next step in the journe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87480" y="890280"/>
            <a:ext cx="786456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The Quality Journey, The Team, The Coach - 2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44720" y="1530000"/>
            <a:ext cx="743112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next portion of the quality module focuses on helping TSP Coaches anticipate and prepare for dealing with problems in moving teams through the quality journe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e will work on the following key activiti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derstanding the quality journe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spec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nalyzing quality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Economics of qualit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a TSP Coach, the first time a team engages in a new activity, you will need to take a strong role in leading this activity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  <a:ea typeface="MS PGothic"/>
              </a:rPr>
              <a:t>The Quality Journey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Quality Journey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Aft>
                <a:spcPts val="4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Quality is not a final result or destination.  It is a journey that never end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teams measure quality, they learn more about i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focus is on continuous improv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is journey can be described as a series of steps that navigate from a lack of quality or poor quality to continuous improveme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476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nagement, the team, and individual team members already understand PSP quality principles from an intellectual standpoint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 all have internalized these principl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dividuals will be at different stages on the job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spcAft>
                <a:spcPts val="1125"/>
              </a:spcAft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As a TSP coach, you need to understand where the individuals and the team are on this journey so that you can help them to navigate and continuously improv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17:36:58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8Z</dcterms:modified>
  <cp:revision>216</cp:revision>
  <dc:subject/>
  <dc:title>No Slide Title</dc:title>
</cp:coreProperties>
</file>